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image17.wmf" ContentType="image/x-wmf"/>
  <Override PartName="/ppt/media/buzzer.wav" ContentType="audio/x-wav"/>
  <Override PartName="/ppt/media/image7.wmf" ContentType="image/x-wmf"/>
  <Override PartName="/ppt/media/image16.wmf" ContentType="image/x-wmf"/>
  <Override PartName="/ppt/media/ahhh.wav" ContentType="audio/x-wav"/>
  <Override PartName="/ppt/media/image15.wmf" ContentType="image/x-wmf"/>
  <Override PartName="/ppt/media/harp.wav" ContentType="audio/x-wav"/>
  <Override PartName="/ppt/media/image20.wmf" ContentType="image/x-wmf"/>
  <Override PartName="/ppt/media/image18.wmf" ContentType="image/x-wmf"/>
  <Override PartName="/ppt/media/wakeup.wav" ContentType="audio/x-wav"/>
  <Override PartName="/ppt/media/image5.png" ContentType="image/png"/>
  <Override PartName="/ppt/media/image13.wmf" ContentType="image/x-wmf"/>
  <Override PartName="/ppt/media/image21.wmf" ContentType="image/x-wmf"/>
  <Override PartName="/ppt/media/APPLAUSE.WAV" ContentType="audio/x-wav"/>
  <Override PartName="/ppt/media/image23.wmf" ContentType="image/x-wmf"/>
  <Override PartName="/ppt/media/image1.wmf" ContentType="image/x-wmf"/>
  <Override PartName="/ppt/media/image24.wmf" ContentType="image/x-wmf"/>
  <Override PartName="/ppt/media/whee.wav" ContentType="audio/x-wav"/>
  <Override PartName="/ppt/media/attaboy.wav" ContentType="audio/x-wav"/>
  <Override PartName="/ppt/media/image2.wmf" ContentType="image/x-wmf"/>
  <Override PartName="/ppt/media/image9.wmf" ContentType="image/x-wmf"/>
  <Override PartName="/ppt/media/image25.wmf" ContentType="image/x-wmf"/>
  <Override PartName="/ppt/media/yabba.wav" ContentType="audio/x-wav"/>
  <Override PartName="/ppt/media/image11.wmf" ContentType="image/x-wmf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gethang.wav" ContentType="audio/x-wav"/>
  <Override PartName="/ppt/media/image22.wmf" ContentType="image/x-wmf"/>
  <Override PartName="/ppt/media/image6.wmf" ContentType="image/x-wmf"/>
  <Override PartName="/ppt/media/look_good.wav" ContentType="audio/x-wav"/>
  <Override PartName="/ppt/media/image8.wmf" ContentType="image/x-wmf"/>
  <Override PartName="/ppt/media/1ststep.wav" ContentType="audio/x-wav"/>
  <Override PartName="/ppt/media/image10.wmf" ContentType="image/x-wmf"/>
  <Override PartName="/ppt/media/image14.wmf" ContentType="image/x-wmf"/>
  <Override PartName="/ppt/media/excelnt.wav" ContentType="audio/x-wav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2284-B181-424E-9F5C-1F66764D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E31A-3C02-43F6-8F55-893833C8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BED-300F-466D-B1F8-C25F2EEB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6253-758C-4926-9FE6-614B06E9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E30C-603D-4144-B599-E14DE552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B6AE-D7E5-4BF1-8017-74D5005C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4F42-B901-401A-916E-8F4BEB5B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6837-615C-4A9F-AEE4-4D1A9AC3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9D1D-06A8-4CBB-9C19-D0AE9D2E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35D5-D8EE-49EC-AA37-D5EC178C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D0B2-D371-4778-92B7-C30B191F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298E-01E5-4278-ADF8-B264A2EC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5FE4-5458-4BE2-AFFD-9680FB5D1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look_goo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attaboy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audio" Target="../media/excelnt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buzze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gethang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harp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whee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ahhh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audio" Target="../media/yabba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akeup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1ststep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295280" y="1752480"/>
            <a:ext cx="7086600" cy="19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or Opinion?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506680" cy="2271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12"/>
          <p:cNvGrpSpPr/>
          <p:nvPr/>
        </p:nvGrpSpPr>
        <p:grpSpPr>
          <a:xfrm>
            <a:off x="3726360" y="4952880"/>
            <a:ext cx="1919520" cy="1700280"/>
            <a:chOff x="3726360" y="4952880"/>
            <a:chExt cx="1919520" cy="1700280"/>
          </a:xfrm>
        </p:grpSpPr>
        <p:grpSp>
          <p:nvGrpSpPr>
            <p:cNvPr id="45" name="Group 7"/>
            <p:cNvGrpSpPr/>
            <p:nvPr/>
          </p:nvGrpSpPr>
          <p:grpSpPr>
            <a:xfrm>
              <a:off x="4038480" y="4952880"/>
              <a:ext cx="1371600" cy="228600"/>
              <a:chOff x="4038480" y="4952880"/>
              <a:chExt cx="1371600" cy="228600"/>
            </a:xfrm>
          </p:grpSpPr>
          <p:sp>
            <p:nvSpPr>
              <p:cNvPr id="46" name="Oval 4"/>
              <p:cNvSpPr/>
              <p:nvPr/>
            </p:nvSpPr>
            <p:spPr>
              <a:xfrm>
                <a:off x="4038480" y="4952880"/>
                <a:ext cx="15264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5"/>
              <p:cNvSpPr/>
              <p:nvPr/>
            </p:nvSpPr>
            <p:spPr>
              <a:xfrm>
                <a:off x="5257800" y="495288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AutoShape 11"/>
            <p:cNvSpPr/>
            <p:nvPr/>
          </p:nvSpPr>
          <p:spPr>
            <a:xfrm rot="16287000">
              <a:off x="4381200" y="5371920"/>
              <a:ext cx="609480" cy="1904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ook_goo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06000" y="533520"/>
            <a:ext cx="857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n opinion.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29494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64280" y="609480"/>
            <a:ext cx="816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le, oak, and pine are types of tre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76720" y="2057400"/>
            <a:ext cx="255276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223280" y="68580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724280" y="4800600"/>
            <a:ext cx="1271880" cy="1386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5029200" cy="50007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8"/>
          <p:cNvSpPr/>
          <p:nvPr/>
        </p:nvSpPr>
        <p:spPr>
          <a:xfrm>
            <a:off x="5791320" y="1905120"/>
            <a:ext cx="3047760" cy="25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OH…NUT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9">
            <a:hlinkClick r:id="rId3" action="ppaction://hlinksldjump"/>
          </p:cNvPr>
          <p:cNvSpPr/>
          <p:nvPr/>
        </p:nvSpPr>
        <p:spPr>
          <a:xfrm>
            <a:off x="6858000" y="502920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5953" y="3794"/>
                </a:moveTo>
                <a:lnTo>
                  <a:pt x="19966" y="10800"/>
                </a:lnTo>
                <a:lnTo>
                  <a:pt x="595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221840" y="68580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724280" y="4800600"/>
            <a:ext cx="1271880" cy="138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5029200" cy="50007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5"/>
          <p:cNvSpPr/>
          <p:nvPr/>
        </p:nvSpPr>
        <p:spPr>
          <a:xfrm>
            <a:off x="5791320" y="1905120"/>
            <a:ext cx="3047760" cy="25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ou’re 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REA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62840" y="609480"/>
            <a:ext cx="80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emperature outside is 20 degre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00400" y="1868400"/>
            <a:ext cx="34290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764640" y="60948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851200" cy="31240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7"/>
          <p:cNvSpPr/>
          <p:nvPr/>
        </p:nvSpPr>
        <p:spPr>
          <a:xfrm>
            <a:off x="3733920" y="1600200"/>
            <a:ext cx="5257800" cy="2438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ch Out!  You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tting ho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8">
            <a:hlinkClick r:id="rId2" action="ppaction://hlinksldjump"/>
          </p:cNvPr>
          <p:cNvSpPr/>
          <p:nvPr/>
        </p:nvSpPr>
        <p:spPr>
          <a:xfrm>
            <a:off x="5867280" y="4876920"/>
            <a:ext cx="1676520" cy="1143000"/>
          </a:xfrm>
          <a:custGeom>
            <a:avLst/>
            <a:gdLst>
              <a:gd name="textAreaLeft" fmla="*/ 73800 w 1676520"/>
              <a:gd name="textAreaRight" fmla="*/ 1602720 w 16765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1679" h="21600">
                <a:moveTo>
                  <a:pt x="0" y="0"/>
                </a:moveTo>
                <a:lnTo>
                  <a:pt x="31679" y="0"/>
                </a:lnTo>
                <a:lnTo>
                  <a:pt x="31679" y="21600"/>
                </a:lnTo>
                <a:lnTo>
                  <a:pt x="0" y="21600"/>
                </a:lnTo>
                <a:close/>
              </a:path>
              <a:path fill="lightenLess" w="31679" h="21600">
                <a:moveTo>
                  <a:pt x="0" y="0"/>
                </a:moveTo>
                <a:lnTo>
                  <a:pt x="31679" y="0"/>
                </a:lnTo>
                <a:lnTo>
                  <a:pt x="30279" y="1400"/>
                </a:lnTo>
                <a:lnTo>
                  <a:pt x="1400" y="1400"/>
                </a:lnTo>
                <a:close/>
              </a:path>
              <a:path fill="darken" w="31679" h="21600">
                <a:moveTo>
                  <a:pt x="31679" y="0"/>
                </a:moveTo>
                <a:lnTo>
                  <a:pt x="31679" y="21600"/>
                </a:lnTo>
                <a:lnTo>
                  <a:pt x="30279" y="20200"/>
                </a:lnTo>
                <a:lnTo>
                  <a:pt x="30279" y="1400"/>
                </a:lnTo>
                <a:close/>
              </a:path>
              <a:path fill="darkenLess" w="31679" h="21600">
                <a:moveTo>
                  <a:pt x="31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79" y="20200"/>
                </a:lnTo>
                <a:close/>
              </a:path>
              <a:path fill="lighten" w="31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679" h="21600">
                <a:moveTo>
                  <a:pt x="8833" y="3794"/>
                </a:moveTo>
                <a:lnTo>
                  <a:pt x="22846" y="10800"/>
                </a:lnTo>
                <a:lnTo>
                  <a:pt x="8833" y="17806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766080" y="60948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851200" cy="31240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4"/>
          <p:cNvSpPr/>
          <p:nvPr/>
        </p:nvSpPr>
        <p:spPr>
          <a:xfrm>
            <a:off x="3733920" y="1600200"/>
            <a:ext cx="5257800" cy="2438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ch Out!  You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tting col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762480" y="609480"/>
            <a:ext cx="807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uters are the best invention ev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6352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763920" y="609480"/>
            <a:ext cx="766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n opin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 I’d have to agree with i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4081680" cy="336528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7">
            <a:hlinkClick r:id="rId2" action="ppaction://hlinksldjump"/>
          </p:cNvPr>
          <p:cNvSpPr/>
          <p:nvPr/>
        </p:nvSpPr>
        <p:spPr>
          <a:xfrm>
            <a:off x="7391520" y="5562720"/>
            <a:ext cx="1295280" cy="99036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8248" h="21600">
                <a:moveTo>
                  <a:pt x="0" y="0"/>
                </a:moveTo>
                <a:lnTo>
                  <a:pt x="28248" y="0"/>
                </a:lnTo>
                <a:lnTo>
                  <a:pt x="28248" y="21600"/>
                </a:lnTo>
                <a:lnTo>
                  <a:pt x="0" y="21600"/>
                </a:lnTo>
                <a:close/>
              </a:path>
              <a:path fill="lightenLess" w="28248" h="21600">
                <a:moveTo>
                  <a:pt x="0" y="0"/>
                </a:moveTo>
                <a:lnTo>
                  <a:pt x="28248" y="0"/>
                </a:lnTo>
                <a:lnTo>
                  <a:pt x="26848" y="1400"/>
                </a:lnTo>
                <a:lnTo>
                  <a:pt x="1400" y="1400"/>
                </a:lnTo>
                <a:close/>
              </a:path>
              <a:path fill="darken" w="28248" h="21600">
                <a:moveTo>
                  <a:pt x="28248" y="0"/>
                </a:moveTo>
                <a:lnTo>
                  <a:pt x="28248" y="21600"/>
                </a:lnTo>
                <a:lnTo>
                  <a:pt x="26848" y="20200"/>
                </a:lnTo>
                <a:lnTo>
                  <a:pt x="26848" y="1400"/>
                </a:lnTo>
                <a:close/>
              </a:path>
              <a:path fill="darkenLess" w="28248" h="21600">
                <a:moveTo>
                  <a:pt x="28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8" y="20200"/>
                </a:lnTo>
                <a:close/>
              </a:path>
              <a:path fill="lighten" w="28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48" h="21600">
                <a:moveTo>
                  <a:pt x="7118" y="3794"/>
                </a:moveTo>
                <a:lnTo>
                  <a:pt x="21130" y="10800"/>
                </a:lnTo>
                <a:lnTo>
                  <a:pt x="711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762120" y="609480"/>
            <a:ext cx="827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inion …and I’d have to agree with i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4081680" cy="33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1601640" y="304920"/>
            <a:ext cx="5726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ct is a true statemen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facts never chang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 some facts can ch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127160" y="2435400"/>
            <a:ext cx="509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ct that does chang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7"/>
          <p:cNvGrpSpPr/>
          <p:nvPr/>
        </p:nvGrpSpPr>
        <p:grpSpPr>
          <a:xfrm>
            <a:off x="535320" y="3505320"/>
            <a:ext cx="6619680" cy="860400"/>
            <a:chOff x="535320" y="3505320"/>
            <a:chExt cx="6619680" cy="86040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029200" y="3505320"/>
              <a:ext cx="21258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6"/>
            <p:cNvSpPr/>
            <p:nvPr/>
          </p:nvSpPr>
          <p:spPr>
            <a:xfrm>
              <a:off x="535320" y="3581280"/>
              <a:ext cx="430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ennessee is a state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Rectangle 8"/>
          <p:cNvSpPr/>
          <p:nvPr/>
        </p:nvSpPr>
        <p:spPr>
          <a:xfrm>
            <a:off x="457200" y="2438280"/>
            <a:ext cx="8229600" cy="266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ct that can chang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2"/>
          <p:cNvGrpSpPr/>
          <p:nvPr/>
        </p:nvGrpSpPr>
        <p:grpSpPr>
          <a:xfrm>
            <a:off x="1677600" y="4724280"/>
            <a:ext cx="5164200" cy="1203480"/>
            <a:chOff x="1677600" y="4724280"/>
            <a:chExt cx="5164200" cy="1203480"/>
          </a:xfrm>
        </p:grpSpPr>
        <p:sp>
          <p:nvSpPr>
            <p:cNvPr id="56" name="Text Box 10"/>
            <p:cNvSpPr/>
            <p:nvPr/>
          </p:nvSpPr>
          <p:spPr>
            <a:xfrm>
              <a:off x="1677600" y="4952880"/>
              <a:ext cx="351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his food is hot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5715000" y="4724280"/>
              <a:ext cx="1126800" cy="120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62480" y="609480"/>
            <a:ext cx="66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think I look terrible in or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15732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764280" y="609480"/>
            <a:ext cx="778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n opin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76520" y="3757680"/>
            <a:ext cx="3325680" cy="310032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7"/>
          <p:cNvSpPr/>
          <p:nvPr/>
        </p:nvSpPr>
        <p:spPr>
          <a:xfrm>
            <a:off x="4495680" y="1905120"/>
            <a:ext cx="4496040" cy="2361960"/>
          </a:xfrm>
          <a:prstGeom prst="cloudCallout">
            <a:avLst>
              <a:gd name="adj1" fmla="val -53212"/>
              <a:gd name="adj2" fmla="val 526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408280" y="228600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think you l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rvelou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6324480" y="4800600"/>
            <a:ext cx="1676520" cy="1371600"/>
          </a:xfrm>
          <a:custGeom>
            <a:avLst/>
            <a:gdLst>
              <a:gd name="textAreaLeft" fmla="*/ 88920 w 1676520"/>
              <a:gd name="textAreaRight" fmla="*/ 1587600 w 16765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1" h="21600">
                <a:moveTo>
                  <a:pt x="6194" y="3794"/>
                </a:moveTo>
                <a:lnTo>
                  <a:pt x="20207" y="10800"/>
                </a:lnTo>
                <a:lnTo>
                  <a:pt x="6194" y="17806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762480" y="609480"/>
            <a:ext cx="8015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n opin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76520" y="3757680"/>
            <a:ext cx="3325680" cy="31003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4"/>
          <p:cNvSpPr/>
          <p:nvPr/>
        </p:nvSpPr>
        <p:spPr>
          <a:xfrm>
            <a:off x="4495680" y="1905120"/>
            <a:ext cx="4496040" cy="2361960"/>
          </a:xfrm>
          <a:prstGeom prst="cloudCallout">
            <a:avLst>
              <a:gd name="adj1" fmla="val -53212"/>
              <a:gd name="adj2" fmla="val 526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408280" y="228600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think you l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rvelou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763200" y="609480"/>
            <a:ext cx="687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her is working in the gard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921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766080" y="60948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1654200" cy="27543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8"/>
          <p:cNvSpPr/>
          <p:nvPr/>
        </p:nvSpPr>
        <p:spPr>
          <a:xfrm>
            <a:off x="5486400" y="1981080"/>
            <a:ext cx="2971800" cy="2133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et the ide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6553080" y="4876920"/>
            <a:ext cx="1447920" cy="121896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5656" h="21600">
                <a:moveTo>
                  <a:pt x="0" y="0"/>
                </a:moveTo>
                <a:lnTo>
                  <a:pt x="25656" y="0"/>
                </a:lnTo>
                <a:lnTo>
                  <a:pt x="25656" y="21600"/>
                </a:lnTo>
                <a:lnTo>
                  <a:pt x="0" y="21600"/>
                </a:lnTo>
                <a:close/>
              </a:path>
              <a:path fill="lightenLess" w="25656" h="21600">
                <a:moveTo>
                  <a:pt x="0" y="0"/>
                </a:moveTo>
                <a:lnTo>
                  <a:pt x="25656" y="0"/>
                </a:lnTo>
                <a:lnTo>
                  <a:pt x="24256" y="1400"/>
                </a:lnTo>
                <a:lnTo>
                  <a:pt x="1400" y="1400"/>
                </a:lnTo>
                <a:close/>
              </a:path>
              <a:path fill="darken" w="25656" h="21600">
                <a:moveTo>
                  <a:pt x="25656" y="0"/>
                </a:moveTo>
                <a:lnTo>
                  <a:pt x="25656" y="21600"/>
                </a:lnTo>
                <a:lnTo>
                  <a:pt x="24256" y="20200"/>
                </a:lnTo>
                <a:lnTo>
                  <a:pt x="24256" y="1400"/>
                </a:lnTo>
                <a:close/>
              </a:path>
              <a:path fill="darkenLess" w="25656" h="21600">
                <a:moveTo>
                  <a:pt x="256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56" y="20200"/>
                </a:lnTo>
                <a:close/>
              </a:path>
              <a:path fill="lighten" w="256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56" h="21600">
                <a:moveTo>
                  <a:pt x="5822" y="3794"/>
                </a:moveTo>
                <a:lnTo>
                  <a:pt x="19834" y="10800"/>
                </a:lnTo>
                <a:lnTo>
                  <a:pt x="5822" y="1780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764640" y="60948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1654200" cy="275436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4"/>
          <p:cNvSpPr/>
          <p:nvPr/>
        </p:nvSpPr>
        <p:spPr>
          <a:xfrm>
            <a:off x="5486400" y="1981080"/>
            <a:ext cx="2971800" cy="2133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ow you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e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ide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9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1524600" y="533520"/>
            <a:ext cx="61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zza is the best tasting f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476800" cy="2762280"/>
          </a:xfrm>
          <a:prstGeom prst="rect">
            <a:avLst/>
          </a:prstGeom>
          <a:ln w="0">
            <a:noFill/>
          </a:ln>
        </p:spPr>
      </p:pic>
      <p:sp>
        <p:nvSpPr>
          <p:cNvPr id="140" name="WordArt 10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11"/>
          <p:cNvSpPr txBox="1"/>
          <p:nvPr/>
        </p:nvSpPr>
        <p:spPr>
          <a:xfrm>
            <a:off x="6781680" y="4572000"/>
            <a:ext cx="1981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9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365560" y="685800"/>
            <a:ext cx="5371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opinion.  It tells w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4"/>
          <p:cNvSpPr/>
          <p:nvPr/>
        </p:nvSpPr>
        <p:spPr>
          <a:xfrm rot="31800">
            <a:off x="991800" y="2587320"/>
            <a:ext cx="2890800" cy="2487600"/>
          </a:xfrm>
          <a:prstGeom prst="wedgeRoundRectCallout">
            <a:avLst>
              <a:gd name="adj1" fmla="val 73662"/>
              <a:gd name="adj2" fmla="val 4612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thin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urgers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7543800" y="55627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6880" y="3794"/>
                </a:moveTo>
                <a:lnTo>
                  <a:pt x="20893" y="10800"/>
                </a:lnTo>
                <a:lnTo>
                  <a:pt x="6880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9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364120" y="685800"/>
            <a:ext cx="560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opinion.  It tells w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4"/>
          <p:cNvSpPr/>
          <p:nvPr/>
        </p:nvSpPr>
        <p:spPr>
          <a:xfrm rot="31800">
            <a:off x="991800" y="2587320"/>
            <a:ext cx="2890800" cy="2487600"/>
          </a:xfrm>
          <a:prstGeom prst="wedgeRoundRectCallout">
            <a:avLst>
              <a:gd name="adj1" fmla="val 73662"/>
              <a:gd name="adj2" fmla="val 4612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thin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urgers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457200" y="466740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144080" y="685800"/>
            <a:ext cx="70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ccer and tennis are both spor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3665520" cy="3102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828800" y="1905120"/>
            <a:ext cx="1965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95640" y="685800"/>
            <a:ext cx="639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opinion is a statement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lls what someone think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inions can also can ch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2976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hh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1146960" y="68580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3028680" cy="3276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2395440" cy="281952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11"/>
          <p:cNvSpPr/>
          <p:nvPr/>
        </p:nvSpPr>
        <p:spPr>
          <a:xfrm>
            <a:off x="7238880" y="54864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7" h="21600">
                <a:moveTo>
                  <a:pt x="7652" y="3794"/>
                </a:moveTo>
                <a:lnTo>
                  <a:pt x="21665" y="10800"/>
                </a:lnTo>
                <a:lnTo>
                  <a:pt x="765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145520" y="68580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3028680" cy="3276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239544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143000" y="685800"/>
            <a:ext cx="714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id you do?  If you n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re help, click the button belo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 try ag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7">
            <a:hlinkClick r:id="" action="ppaction://hlinkshowjump?jump=firstslide"/>
          </p:cNvPr>
          <p:cNvSpPr/>
          <p:nvPr/>
        </p:nvSpPr>
        <p:spPr>
          <a:xfrm>
            <a:off x="3429000" y="3809880"/>
            <a:ext cx="3124080" cy="1981440"/>
          </a:xfrm>
          <a:custGeom>
            <a:avLst/>
            <a:gdLst>
              <a:gd name="textAreaLeft" fmla="*/ 128160 w 3124080"/>
              <a:gd name="textAreaRight" fmla="*/ 2995920 w 3124080"/>
              <a:gd name="textAreaTop" fmla="*/ 128160 h 1981440"/>
              <a:gd name="textAreaBottom" fmla="*/ 1853280 h 1981440"/>
            </a:gdLst>
            <a:ahLst/>
            <a:rect l="textAreaLeft" t="textAreaTop" r="textAreaRight" b="textAreaBottom"/>
            <a:pathLst>
              <a:path w="34054" h="21600">
                <a:moveTo>
                  <a:pt x="0" y="0"/>
                </a:moveTo>
                <a:lnTo>
                  <a:pt x="34054" y="0"/>
                </a:lnTo>
                <a:lnTo>
                  <a:pt x="34054" y="21600"/>
                </a:lnTo>
                <a:lnTo>
                  <a:pt x="0" y="21600"/>
                </a:lnTo>
                <a:close/>
              </a:path>
              <a:path fill="lightenLess" w="34054" h="21600">
                <a:moveTo>
                  <a:pt x="0" y="0"/>
                </a:moveTo>
                <a:lnTo>
                  <a:pt x="34054" y="0"/>
                </a:lnTo>
                <a:lnTo>
                  <a:pt x="32654" y="1400"/>
                </a:lnTo>
                <a:lnTo>
                  <a:pt x="1400" y="1400"/>
                </a:lnTo>
                <a:close/>
              </a:path>
              <a:path fill="darken" w="34054" h="21600">
                <a:moveTo>
                  <a:pt x="34054" y="0"/>
                </a:moveTo>
                <a:lnTo>
                  <a:pt x="34054" y="21600"/>
                </a:lnTo>
                <a:lnTo>
                  <a:pt x="32654" y="20200"/>
                </a:lnTo>
                <a:lnTo>
                  <a:pt x="32654" y="1400"/>
                </a:lnTo>
                <a:close/>
              </a:path>
              <a:path fill="darkenLess" w="34054" h="21600">
                <a:moveTo>
                  <a:pt x="34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54" y="20200"/>
                </a:lnTo>
                <a:close/>
              </a:path>
              <a:path fill="lighten" w="34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54" h="21600">
                <a:moveTo>
                  <a:pt x="10020" y="10800"/>
                </a:moveTo>
                <a:lnTo>
                  <a:pt x="24033" y="3794"/>
                </a:lnTo>
                <a:lnTo>
                  <a:pt x="24033" y="1780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456840" y="609480"/>
            <a:ext cx="823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n you tell if the following stat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 facts or opin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2133360" cy="32385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5334120" y="1752480"/>
            <a:ext cx="3352680" cy="2133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’s pract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ake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53000" y="533520"/>
            <a:ext cx="87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ery year except leap year has 365 d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27400" y="2038320"/>
            <a:ext cx="2689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1602720" y="609480"/>
            <a:ext cx="65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436840" cy="289548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7">
            <a:hlinkClick r:id="rId2" action="ppaction://hlinksldjump"/>
          </p:cNvPr>
          <p:cNvSpPr/>
          <p:nvPr/>
        </p:nvSpPr>
        <p:spPr>
          <a:xfrm>
            <a:off x="4038480" y="5562720"/>
            <a:ext cx="1524240" cy="99036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40" h="21600">
                <a:moveTo>
                  <a:pt x="0" y="0"/>
                </a:moveTo>
                <a:lnTo>
                  <a:pt x="33240" y="0"/>
                </a:lnTo>
                <a:lnTo>
                  <a:pt x="33240" y="21600"/>
                </a:lnTo>
                <a:lnTo>
                  <a:pt x="0" y="21600"/>
                </a:lnTo>
                <a:close/>
              </a:path>
              <a:path fill="lightenLess" w="33240" h="21600">
                <a:moveTo>
                  <a:pt x="0" y="0"/>
                </a:moveTo>
                <a:lnTo>
                  <a:pt x="33240" y="0"/>
                </a:lnTo>
                <a:lnTo>
                  <a:pt x="31840" y="1400"/>
                </a:lnTo>
                <a:lnTo>
                  <a:pt x="1400" y="1400"/>
                </a:lnTo>
                <a:close/>
              </a:path>
              <a:path fill="darken" w="33240" h="21600">
                <a:moveTo>
                  <a:pt x="33240" y="0"/>
                </a:moveTo>
                <a:lnTo>
                  <a:pt x="33240" y="21600"/>
                </a:lnTo>
                <a:lnTo>
                  <a:pt x="31840" y="20200"/>
                </a:lnTo>
                <a:lnTo>
                  <a:pt x="31840" y="1400"/>
                </a:lnTo>
                <a:close/>
              </a:path>
              <a:path fill="darkenLess" w="33240" h="21600">
                <a:moveTo>
                  <a:pt x="33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40" y="20200"/>
                </a:lnTo>
                <a:close/>
              </a:path>
              <a:path fill="lighten" w="33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240" h="21600">
                <a:moveTo>
                  <a:pt x="9613" y="3794"/>
                </a:moveTo>
                <a:lnTo>
                  <a:pt x="23626" y="10800"/>
                </a:lnTo>
                <a:lnTo>
                  <a:pt x="961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069200" y="60948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87880" y="2590920"/>
            <a:ext cx="2274840" cy="22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763200" y="609480"/>
            <a:ext cx="786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nch fries taste better with ketch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733920" y="2209680"/>
            <a:ext cx="17143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536040" y="609480"/>
            <a:ext cx="835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n opinion.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505320" y="2057400"/>
            <a:ext cx="2025360" cy="292104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7">
            <a:hlinkClick r:id="rId2" action="ppaction://hlinksldjump"/>
          </p:cNvPr>
          <p:cNvSpPr/>
          <p:nvPr/>
        </p:nvSpPr>
        <p:spPr>
          <a:xfrm>
            <a:off x="3809880" y="5334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3794"/>
                </a:moveTo>
                <a:lnTo>
                  <a:pt x="24284" y="10800"/>
                </a:lnTo>
                <a:lnTo>
                  <a:pt x="10271" y="1780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8T18:37:03Z</dcterms:created>
  <dc:creator>T.R. Systems</dc:creator>
  <dc:description/>
  <dc:language>en-US</dc:language>
  <cp:lastModifiedBy>teacher</cp:lastModifiedBy>
  <dcterms:modified xsi:type="dcterms:W3CDTF">2011-02-07T01:38:07Z</dcterms:modified>
  <cp:revision>7</cp:revision>
  <dc:subject/>
  <dc:title>No Slide Title</dc:title>
</cp:coreProperties>
</file>